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A48B-DB15-4FCC-BAEF-FDAA555123C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E7E1-93CA-48AF-A157-910369A97E5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C961-01FC-4283-8DBB-5A6B1EAA130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BDC1-C4DB-4013-B915-A89B5A1DCF5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A163-B3A6-4454-8DEE-91127FD7675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2C1A-F9B2-4698-B88D-39BDC39175C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D26B-EE92-4860-BBB5-CE2B50D1027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902A-CF70-4784-8F24-8E9B5086DAB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BD0C-DC1F-44A3-A3F5-F54E1FC65BB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6FB3-9196-4B84-9AC1-FB3A6E99244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0503-EB04-4D70-B580-75AE0C2683B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7426-B0F8-4C8B-A267-C14EFC51CAD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9774-FEAB-4811-BA20-0B8D5F9D157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1FA2-3522-4BA2-9E21-4EB18E21E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C954-8048-4E21-AAFA-1DD548E6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96A6-8E21-4E46-881C-F0A1E0D44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BF6D-76C0-44A7-86A4-EFB5B4FAB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2C04-93CD-414A-A250-5D92ECA8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5857-26CD-4F75-9474-09033443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D9D6-A727-4A67-B481-1D534EA3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E73A-C4AF-455B-9925-FDDF2878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0B7A-5AB5-493B-8601-8181FF7D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1E06-AA0E-44A0-9288-BFF2DF6F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31FB-8A1B-4137-980D-02C79673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C0F8-7F3D-4D20-9C72-3FCEA510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A009-0F05-43C1-8D7A-CAA2F3CCC2C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4 Imagen" descr="carrusel_palacio1.jpg"/>
          <p:cNvPicPr/>
          <p:nvPr/>
        </p:nvPicPr>
        <p:blipFill>
          <a:blip r:embed="rId1"/>
          <a:stretch/>
        </p:blipFill>
        <p:spPr>
          <a:xfrm>
            <a:off x="-65160" y="3429000"/>
            <a:ext cx="9209160" cy="3429000"/>
          </a:xfrm>
          <a:prstGeom prst="rect">
            <a:avLst/>
          </a:prstGeom>
          <a:ln w="0">
            <a:noFill/>
          </a:ln>
        </p:spPr>
      </p:pic>
      <p:pic>
        <p:nvPicPr>
          <p:cNvPr id="49" name="6 Imagen" descr="torre-de-hercules-la-coruna-b.jpg"/>
          <p:cNvPicPr/>
          <p:nvPr/>
        </p:nvPicPr>
        <p:blipFill>
          <a:blip r:embed="rId2"/>
          <a:srcRect l="38283" t="11789" r="32425" b="17678"/>
          <a:stretch/>
        </p:blipFill>
        <p:spPr>
          <a:xfrm>
            <a:off x="4946760" y="0"/>
            <a:ext cx="4197240" cy="6715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Documents and Settings\Compaq_Propietario.JUAN\Escritorio\logo_iala_210.gif"/>
          <p:cNvPicPr/>
          <p:nvPr/>
        </p:nvPicPr>
        <p:blipFill>
          <a:blip r:embed="rId3"/>
          <a:stretch/>
        </p:blipFill>
        <p:spPr>
          <a:xfrm>
            <a:off x="4357800" y="214200"/>
            <a:ext cx="415800" cy="571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Documents and Settings\Compaq_Propietario.JUAN\Escritorio\LOGOS PUERTOS 2010\LOGO PDE 2010 Fondo Blanco.jpg"/>
          <p:cNvPicPr/>
          <p:nvPr/>
        </p:nvPicPr>
        <p:blipFill>
          <a:blip r:embed="rId4"/>
          <a:stretch/>
        </p:blipFill>
        <p:spPr>
          <a:xfrm>
            <a:off x="0" y="142920"/>
            <a:ext cx="3000240" cy="584280"/>
          </a:xfrm>
          <a:prstGeom prst="rect">
            <a:avLst/>
          </a:prstGeom>
          <a:ln w="0">
            <a:noFill/>
          </a:ln>
        </p:spPr>
      </p:pic>
      <p:sp>
        <p:nvSpPr>
          <p:cNvPr id="52" name="5 CuadroTexto"/>
          <p:cNvSpPr/>
          <p:nvPr/>
        </p:nvSpPr>
        <p:spPr>
          <a:xfrm>
            <a:off x="0" y="1341360"/>
            <a:ext cx="4894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0000"/>
                </a:solidFill>
                <a:latin typeface="Comic Sans MS"/>
              </a:rPr>
              <a:t>3</a:t>
            </a:r>
            <a:r>
              <a:rPr b="1" lang="es-ES" sz="3200" spc="-1" strike="noStrike" u="sng" baseline="30000">
                <a:solidFill>
                  <a:srgbClr val="cc0000"/>
                </a:solidFill>
                <a:uFillTx/>
                <a:latin typeface="Comic Sans MS"/>
              </a:rPr>
              <a:t>rd</a:t>
            </a:r>
            <a:r>
              <a:rPr b="1" lang="es-ES" sz="3200" spc="-1" strike="noStrike">
                <a:solidFill>
                  <a:srgbClr val="cc0000"/>
                </a:solidFill>
                <a:latin typeface="Comic Sans MS"/>
              </a:rPr>
              <a:t> Conference Steering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0000"/>
                </a:solidFill>
                <a:latin typeface="Comic Sans MS"/>
              </a:rPr>
              <a:t>IALA-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4)  Develop themes / titles for the various technical sessions (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990000" y="2997360"/>
            <a:ext cx="70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Preliminary Conference Time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250920" y="0"/>
          <a:ext cx="8713800" cy="6211800"/>
        </p:xfrm>
        <a:graphic>
          <a:graphicData uri="http://schemas.openxmlformats.org/drawingml/2006/table">
            <a:tbl>
              <a:tblPr/>
              <a:tblGrid>
                <a:gridCol w="2178000"/>
                <a:gridCol w="4735440"/>
                <a:gridCol w="936720"/>
                <a:gridCol w="863640"/>
              </a:tblGrid>
              <a:tr h="59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y (May 201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MC Exhib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rning –Afftern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day - 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tion / IALA Counc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lcome rece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- 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ning Assembly and Conference/IALA report and opening IMC  Exhibition / Conference Din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 – 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cal session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me 1   (3 sessions; 15 comm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Assemble 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84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 – 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cal sess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me 2   (3 sessions; 15 comm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C Technical session (5 comm.) and  IMC Even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- 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cal sess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me 3   (4 sessions; 20 comm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83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- 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cal sess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me 4   (3 sessions; 15 comm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 practices session (10 comm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9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urday- 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lusions and recommendations/ General Assemble 2/ Presentations next IALA and VTS / Council mee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la din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1" name="Text Box 62"/>
          <p:cNvSpPr/>
          <p:nvPr/>
        </p:nvSpPr>
        <p:spPr>
          <a:xfrm>
            <a:off x="3687840" y="6256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4)  Develop themes / titles for the various technical sessions (I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84360" y="220500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We suggest that the themes and session titles should be defined by the PAP group, representing each IALA Committee, by Dec. 20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5)  Suggest names of sessions chairper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684360" y="1700280"/>
            <a:ext cx="763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We suggest that the names of the sessions chairpersons should be proposed by the Committee-chair and aproved by the PAP group, by Dec. 20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Puertos del Estado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may propose some names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for chairpers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ff"/>
              </a:buClr>
              <a:buFont typeface="Comic Sans MS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Draft First Call for 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50920" y="836640"/>
            <a:ext cx="8893080" cy="55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Schedule for 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First </a:t>
            </a:r>
            <a:r>
              <a:rPr b="1" lang="en-GB" sz="2800" spc="-1" strike="noStrike" u="sng">
                <a:solidFill>
                  <a:srgbClr val="1f497d"/>
                </a:solidFill>
                <a:uFillTx/>
                <a:latin typeface="Comic Sans MS"/>
              </a:rPr>
              <a:t>general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announcement for the Conferece, preliminary schedule and milestone, in the next IALA Bulletin-Dec. 2011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(we are sending material to the Bulletin editor-¡¡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IMPORTANT !!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First detailed announcement with hotels, program (conference and accompanying), Call for Papers and prices: Dec.-2012 (advanced in Committees next year and VTS Symposi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Abstract papers reception: 30 Jun.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Abstract selection: 30 Sep.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Papers reception: 15 Dec.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ff"/>
              </a:buClr>
              <a:buFont typeface="Comic Sans MS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Draft First Call for Papers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88320" y="1100160"/>
            <a:ext cx="802944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Schedule for Good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Submission of templates before 30 Sep.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Selection of templates before 15 Dec.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370440" y="3645000"/>
            <a:ext cx="8646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Communication from the IMC on R+D+I ma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(Same schedule as Conference paper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but selection to be made by IM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0" y="2602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7) Update from S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Conference 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2. Conference 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3. Conference Director / Organi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9 CuadroTexto"/>
          <p:cNvSpPr/>
          <p:nvPr/>
        </p:nvSpPr>
        <p:spPr>
          <a:xfrm>
            <a:off x="1188720" y="2349360"/>
            <a:ext cx="5490360" cy="14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00"/>
                </a:solidFill>
                <a:latin typeface="Comic Sans MS"/>
              </a:rPr>
              <a:t>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A CORUÑA –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Conference Center:  PALEX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10 CuadroTexto"/>
          <p:cNvSpPr/>
          <p:nvPr/>
        </p:nvSpPr>
        <p:spPr>
          <a:xfrm>
            <a:off x="1359000" y="3860640"/>
            <a:ext cx="31539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00"/>
                </a:solidFill>
                <a:latin typeface="Comic Sans MS"/>
              </a:rPr>
              <a:t>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25 – 31 MAY 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10 CuadroTexto"/>
          <p:cNvSpPr/>
          <p:nvPr/>
        </p:nvSpPr>
        <p:spPr>
          <a:xfrm>
            <a:off x="1093680" y="4869000"/>
            <a:ext cx="80503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00"/>
                </a:solidFill>
                <a:latin typeface="Comic Sans MS"/>
              </a:rPr>
              <a:t>Conference Director from Puertos del 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Mr. Manuel Gómez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Deputy Director of International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C:\Documents and Settings\Compaq_Propietario.JUAN\Escritorio\51 CONSEJO IALA\IALA-2014\coruña google.jpg"/>
          <p:cNvPicPr/>
          <p:nvPr/>
        </p:nvPicPr>
        <p:blipFill>
          <a:blip r:embed="rId3"/>
          <a:stretch/>
        </p:blipFill>
        <p:spPr>
          <a:xfrm>
            <a:off x="179280" y="0"/>
            <a:ext cx="8677440" cy="6249960"/>
          </a:xfrm>
          <a:prstGeom prst="rect">
            <a:avLst/>
          </a:prstGeom>
          <a:ln w="0">
            <a:noFill/>
          </a:ln>
        </p:spPr>
      </p:pic>
      <p:sp>
        <p:nvSpPr>
          <p:cNvPr id="128" name="4 Llamada ovalada"/>
          <p:cNvSpPr/>
          <p:nvPr/>
        </p:nvSpPr>
        <p:spPr>
          <a:xfrm>
            <a:off x="2627280" y="1125360"/>
            <a:ext cx="1563840" cy="684360"/>
          </a:xfrm>
          <a:prstGeom prst="wedgeEllipseCallout">
            <a:avLst>
              <a:gd name="adj1" fmla="val 123518"/>
              <a:gd name="adj2" fmla="val 20975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alibri"/>
              </a:rPr>
              <a:t>ve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7 Rectángulo"/>
          <p:cNvSpPr/>
          <p:nvPr/>
        </p:nvSpPr>
        <p:spPr>
          <a:xfrm>
            <a:off x="5292720" y="2852640"/>
            <a:ext cx="71280" cy="21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32" name="3 Imagen" descr="049.JPG"/>
          <p:cNvPicPr/>
          <p:nvPr/>
        </p:nvPicPr>
        <p:blipFill>
          <a:blip r:embed="rId3"/>
          <a:stretch/>
        </p:blipFill>
        <p:spPr>
          <a:xfrm>
            <a:off x="0" y="1159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35" name="3 Imagen" descr="NIVEL_0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AGENDA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611280" y="1197000"/>
            <a:ext cx="7940520" cy="65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Set up the Conference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Set up the Papers Selection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Agree on the 2014 Conference theme / by-line and 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4) </a:t>
            </a: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Develop themes / titles for the various technical 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5) </a:t>
            </a: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Suggest names of sessions chairper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Draft First Call for Pa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38" name="3 Imagen" descr="NIVEL 2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41" name="3 Imagen" descr="PLANTA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7) Update from Spain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353960" y="1125360"/>
            <a:ext cx="50360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Conference e-mail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IALA-2014@puertos.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468360" y="2492280"/>
            <a:ext cx="8209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VIPs Inv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IALA will send information about President or Secretary General of “sister Organizations” and other Authorities, that need to be invited to participate in the Conference, especially in the opening session.</a:t>
            </a:r>
            <a:br>
              <a:rPr sz="2800"/>
            </a:b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IALA and Puertos del Estado will send formal invitations before June 201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7) Update from Spain (I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684360" y="1341360"/>
            <a:ext cx="808488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IALA- Puertos del Estado agre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If an agreement between IALA and Puertos del Estado is required, please send the IALA draft to Puertos del Estado for signature, once agreed on contents</a:t>
            </a:r>
            <a:r>
              <a:rPr b="0" lang="es-ES" sz="2800" spc="-1" strike="noStrike">
                <a:solidFill>
                  <a:srgbClr val="1f497d"/>
                </a:solidFill>
                <a:latin typeface="Comic Sans MS"/>
              </a:rPr>
              <a:t>.</a:t>
            </a:r>
            <a:r>
              <a:rPr b="0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684360" y="3933720"/>
            <a:ext cx="808488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Expected pric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The price can not be defined before Dec.2012, but should not be greater than the price of last Conference and preferrably at least 5% lower.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ff"/>
              </a:buClr>
              <a:buFont typeface="Comic Sans MS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Industrial exhib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6 CuadroTexto"/>
          <p:cNvSpPr/>
          <p:nvPr/>
        </p:nvSpPr>
        <p:spPr>
          <a:xfrm>
            <a:off x="324000" y="2349360"/>
            <a:ext cx="842472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Stand options</a:t>
            </a:r>
            <a:r>
              <a:rPr b="1" lang="en-US" sz="20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1f497d"/>
                </a:solidFill>
                <a:latin typeface="Comic Sans MS"/>
              </a:rPr>
              <a:t>a) </a:t>
            </a: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3X3 inside building =  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b) 3x3 entrance building (30)+annex (38) = 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c) 3x4 inside building =  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d) 3x4 entrance building (22)+annex (28) =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517680" y="981000"/>
            <a:ext cx="574488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Registration only for exhib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Specific rate only for exhib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59" name="3 Imagen" descr="IALA-PLANO STANDS 3x3 PLANTA BAJA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62" name="4 Imagen" descr="IALA-PLANO STANDS 3x3 PERÍMETRO E ISLAS HALL ENTRADA.jpg"/>
          <p:cNvPicPr/>
          <p:nvPr/>
        </p:nvPicPr>
        <p:blipFill>
          <a:blip r:embed="rId3"/>
          <a:stretch/>
        </p:blipFill>
        <p:spPr>
          <a:xfrm>
            <a:off x="0" y="404640"/>
            <a:ext cx="7043760" cy="5295960"/>
          </a:xfrm>
          <a:prstGeom prst="rect">
            <a:avLst/>
          </a:prstGeom>
          <a:ln w="0">
            <a:noFill/>
          </a:ln>
        </p:spPr>
      </p:pic>
      <p:pic>
        <p:nvPicPr>
          <p:cNvPr id="163" name="5 Imagen" descr="CARPA PALEXCO POPA.JPG"/>
          <p:cNvPicPr/>
          <p:nvPr/>
        </p:nvPicPr>
        <p:blipFill>
          <a:blip r:embed="rId4"/>
          <a:srcRect l="14042" t="1055" r="14950" b="1577"/>
          <a:stretch/>
        </p:blipFill>
        <p:spPr>
          <a:xfrm>
            <a:off x="6804000" y="836640"/>
            <a:ext cx="1606680" cy="3887640"/>
          </a:xfrm>
          <a:prstGeom prst="rect">
            <a:avLst/>
          </a:prstGeom>
          <a:ln w="0">
            <a:noFill/>
          </a:ln>
        </p:spPr>
      </p:pic>
      <p:sp>
        <p:nvSpPr>
          <p:cNvPr id="164" name="6 CuadroTexto"/>
          <p:cNvSpPr/>
          <p:nvPr/>
        </p:nvSpPr>
        <p:spPr>
          <a:xfrm>
            <a:off x="5870880" y="436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7 CuadroTexto"/>
          <p:cNvSpPr/>
          <p:nvPr/>
        </p:nvSpPr>
        <p:spPr>
          <a:xfrm>
            <a:off x="8320680" y="458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8 CuadroTexto"/>
          <p:cNvSpPr/>
          <p:nvPr/>
        </p:nvSpPr>
        <p:spPr>
          <a:xfrm>
            <a:off x="6494040" y="551664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Total = 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69" name="3 Imagen" descr="IALA-PLANO STANDS 4X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grpSp>
        <p:nvGrpSpPr>
          <p:cNvPr id="172" name="13 Grupo"/>
          <p:cNvGrpSpPr/>
          <p:nvPr/>
        </p:nvGrpSpPr>
        <p:grpSpPr>
          <a:xfrm>
            <a:off x="108000" y="404640"/>
            <a:ext cx="6875280" cy="5158080"/>
            <a:chOff x="108000" y="404640"/>
            <a:chExt cx="6875280" cy="5158080"/>
          </a:xfrm>
        </p:grpSpPr>
        <p:pic>
          <p:nvPicPr>
            <p:cNvPr id="173" name="3 Imagen" descr="IALA-PLANO STANDS 4X3.jpg"/>
            <p:cNvPicPr/>
            <p:nvPr/>
          </p:nvPicPr>
          <p:blipFill>
            <a:blip r:embed="rId3"/>
            <a:stretch/>
          </p:blipFill>
          <p:spPr>
            <a:xfrm>
              <a:off x="108000" y="404640"/>
              <a:ext cx="6875280" cy="515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5 Rectángulo"/>
            <p:cNvSpPr/>
            <p:nvPr/>
          </p:nvSpPr>
          <p:spPr>
            <a:xfrm>
              <a:off x="3319560" y="1101600"/>
              <a:ext cx="1238040" cy="23148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6 Rectángulo"/>
            <p:cNvSpPr/>
            <p:nvPr/>
          </p:nvSpPr>
          <p:spPr>
            <a:xfrm>
              <a:off x="1074600" y="1101600"/>
              <a:ext cx="541080" cy="23148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7 Rectángulo"/>
            <p:cNvSpPr/>
            <p:nvPr/>
          </p:nvSpPr>
          <p:spPr>
            <a:xfrm>
              <a:off x="842760" y="1333440"/>
              <a:ext cx="231480" cy="100656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8 Rectángulo"/>
            <p:cNvSpPr/>
            <p:nvPr/>
          </p:nvSpPr>
          <p:spPr>
            <a:xfrm>
              <a:off x="1230120" y="2185920"/>
              <a:ext cx="385560" cy="100656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9 Rectángulo"/>
            <p:cNvSpPr/>
            <p:nvPr/>
          </p:nvSpPr>
          <p:spPr>
            <a:xfrm>
              <a:off x="842760" y="3114720"/>
              <a:ext cx="231480" cy="100656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10 Rectángulo"/>
            <p:cNvSpPr/>
            <p:nvPr/>
          </p:nvSpPr>
          <p:spPr>
            <a:xfrm>
              <a:off x="1074600" y="3965760"/>
              <a:ext cx="541080" cy="30960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11 Rectángulo"/>
            <p:cNvSpPr/>
            <p:nvPr/>
          </p:nvSpPr>
          <p:spPr>
            <a:xfrm>
              <a:off x="3241800" y="4043520"/>
              <a:ext cx="1315800" cy="23148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12 Rectángulo"/>
            <p:cNvSpPr/>
            <p:nvPr/>
          </p:nvSpPr>
          <p:spPr>
            <a:xfrm>
              <a:off x="3009960" y="5205600"/>
              <a:ext cx="178092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14 Imagen" descr="CARPA POPA STANDS 4x3 m.jpg"/>
          <p:cNvPicPr/>
          <p:nvPr/>
        </p:nvPicPr>
        <p:blipFill>
          <a:blip r:embed="rId4"/>
          <a:srcRect l="14262" t="1161" r="14295" b="1723"/>
          <a:stretch/>
        </p:blipFill>
        <p:spPr>
          <a:xfrm>
            <a:off x="6588000" y="765000"/>
            <a:ext cx="1530360" cy="3672000"/>
          </a:xfrm>
          <a:prstGeom prst="rect">
            <a:avLst/>
          </a:prstGeom>
          <a:ln w="0">
            <a:noFill/>
          </a:ln>
        </p:spPr>
      </p:pic>
      <p:sp>
        <p:nvSpPr>
          <p:cNvPr id="183" name="15 CuadroTexto"/>
          <p:cNvSpPr/>
          <p:nvPr/>
        </p:nvSpPr>
        <p:spPr>
          <a:xfrm>
            <a:off x="5867280" y="429264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16 CuadroTexto"/>
          <p:cNvSpPr/>
          <p:nvPr/>
        </p:nvSpPr>
        <p:spPr>
          <a:xfrm>
            <a:off x="8174520" y="458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17 CuadroTexto"/>
          <p:cNvSpPr/>
          <p:nvPr/>
        </p:nvSpPr>
        <p:spPr>
          <a:xfrm>
            <a:off x="6383160" y="54450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TOTAL =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88" name="6 Imagen" descr="CARPA-6 (VISTA PANORÁMICA).jpg"/>
          <p:cNvPicPr/>
          <p:nvPr/>
        </p:nvPicPr>
        <p:blipFill>
          <a:blip r:embed="rId3"/>
          <a:stretch/>
        </p:blipFill>
        <p:spPr>
          <a:xfrm>
            <a:off x="0" y="3213000"/>
            <a:ext cx="9144000" cy="3068640"/>
          </a:xfrm>
          <a:prstGeom prst="rect">
            <a:avLst/>
          </a:prstGeom>
          <a:ln w="0">
            <a:noFill/>
          </a:ln>
        </p:spPr>
      </p:pic>
      <p:pic>
        <p:nvPicPr>
          <p:cNvPr id="189" name="5 Imagen" descr="CARPA-4 (LATERAL).JPG"/>
          <p:cNvPicPr/>
          <p:nvPr/>
        </p:nvPicPr>
        <p:blipFill>
          <a:blip r:embed="rId4"/>
          <a:stretch/>
        </p:blipFill>
        <p:spPr>
          <a:xfrm>
            <a:off x="4187880" y="0"/>
            <a:ext cx="4956120" cy="3716280"/>
          </a:xfrm>
          <a:prstGeom prst="rect">
            <a:avLst/>
          </a:prstGeom>
          <a:ln w="0">
            <a:noFill/>
          </a:ln>
        </p:spPr>
      </p:pic>
      <p:sp>
        <p:nvSpPr>
          <p:cNvPr id="190" name="8 CuadroTexto"/>
          <p:cNvSpPr/>
          <p:nvPr/>
        </p:nvSpPr>
        <p:spPr>
          <a:xfrm>
            <a:off x="324000" y="692280"/>
            <a:ext cx="3267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omic Sans MS"/>
              </a:rPr>
              <a:t>ANN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ff0000"/>
                </a:solidFill>
                <a:latin typeface="Comic Sans MS"/>
              </a:rPr>
              <a:t>Lateral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ff0000"/>
                </a:solidFill>
                <a:latin typeface="Comic Sans MS"/>
              </a:rPr>
              <a:t>Front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9 Flecha derecha"/>
          <p:cNvSpPr/>
          <p:nvPr/>
        </p:nvSpPr>
        <p:spPr>
          <a:xfrm>
            <a:off x="3059280" y="1484280"/>
            <a:ext cx="979200" cy="48564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10 Flecha abajo"/>
          <p:cNvSpPr/>
          <p:nvPr/>
        </p:nvSpPr>
        <p:spPr>
          <a:xfrm>
            <a:off x="2556000" y="2492280"/>
            <a:ext cx="484200" cy="9795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AGENDA ITEMS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611280" y="1052640"/>
            <a:ext cx="830088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7) Update from S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Conference 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2. Conference 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3. Conference Director / Organi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8)  Check off the tasks to be carried out against the IALA Guideline  (internal) for the Preparation of a Conference or Sympos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Industrial ex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10) Any Other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10) Any Other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250920" y="1197000"/>
            <a:ext cx="889308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Gala dinner devoted to THLS 500 Anniver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Possible Iberoamerican Meeting- weeke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before start the Conference (24-25 May) TB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Possible paperless Conference TBD Dec.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Good Practices Award (Award TBD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Next Nov 2012 General Elections in Spain, some decisions must wait for the new Cabi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99" name="WordArt 6"/>
          <p:cNvSpPr txBox="1"/>
          <p:nvPr/>
        </p:nvSpPr>
        <p:spPr>
          <a:xfrm>
            <a:off x="2484360" y="620640"/>
            <a:ext cx="374508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Thank you.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Questions?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2)  Set up the Papers Selection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95280" y="1628640"/>
            <a:ext cx="835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Our proposal is that the Paper Selection should be a task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800" spc="-1" strike="noStrike">
                <a:solidFill>
                  <a:srgbClr val="1f497d"/>
                </a:solidFill>
                <a:latin typeface="Arial"/>
              </a:rPr>
              <a:t>of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the PAP group, with a representation of Puertos del Estado,as observer. (Jun-Sep 201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The main aim of papers should be actions for keeping the knowledge or implementing the innovation.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4f81bd"/>
              </a:buClr>
              <a:buFont typeface="Comic Sans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f81bd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4f81bd"/>
                </a:solidFill>
                <a:latin typeface="Comic Sans MS"/>
              </a:rPr>
              <a:t>Agree on the 2014 Conference theme 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f81bd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4f81bd"/>
                </a:solidFill>
                <a:latin typeface="Comic Sans MS"/>
              </a:rPr>
              <a:t>by-line and 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755640" y="1268280"/>
            <a:ext cx="548784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Key wor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Knowledge and Inno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684360" y="2492280"/>
            <a:ext cx="822960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Theme o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Improving marine navigation safety by knowledge and innovation on aids to navig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Improving AtoN efficiency by knowledge and innov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684360" y="566100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Short: 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AtoN Knowledge and Inno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4f81bd"/>
              </a:buClr>
              <a:buFont typeface="Comic Sans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f81bd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4f81bd"/>
                </a:solidFill>
                <a:latin typeface="Comic Sans MS"/>
              </a:rPr>
              <a:t>Agree on the 2014 Conference theme 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f81bd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4f81bd"/>
                </a:solidFill>
                <a:latin typeface="Comic Sans MS"/>
              </a:rPr>
              <a:t>by-line and logo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4788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3"/>
          <p:cNvGrpSpPr/>
          <p:nvPr/>
        </p:nvGrpSpPr>
        <p:grpSpPr>
          <a:xfrm>
            <a:off x="611280" y="2349360"/>
            <a:ext cx="8253360" cy="4103640"/>
            <a:chOff x="611280" y="2349360"/>
            <a:chExt cx="8253360" cy="4103640"/>
          </a:xfrm>
        </p:grpSpPr>
        <p:pic>
          <p:nvPicPr>
            <p:cNvPr id="76" name="Picture 8" descr="Logos IALA-2014 Previos_Page_3"/>
            <p:cNvPicPr/>
            <p:nvPr/>
          </p:nvPicPr>
          <p:blipFill>
            <a:blip r:embed="rId3"/>
            <a:srcRect l="26581" t="16095" r="27837" b="19528"/>
            <a:stretch/>
          </p:blipFill>
          <p:spPr>
            <a:xfrm>
              <a:off x="611280" y="2349360"/>
              <a:ext cx="2736720" cy="273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9" descr="Logos IALA-2014 Previos_Page_4"/>
            <p:cNvPicPr/>
            <p:nvPr/>
          </p:nvPicPr>
          <p:blipFill>
            <a:blip r:embed="rId4"/>
            <a:srcRect l="27642" t="15067" r="29753" b="24754"/>
            <a:stretch/>
          </p:blipFill>
          <p:spPr>
            <a:xfrm>
              <a:off x="2987640" y="3285720"/>
              <a:ext cx="2332080" cy="24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10" descr="Logos IALA-2014 Previos_Page_5"/>
            <p:cNvPicPr/>
            <p:nvPr/>
          </p:nvPicPr>
          <p:blipFill>
            <a:blip r:embed="rId5"/>
            <a:srcRect l="28585" t="18381" r="29895" b="19196"/>
            <a:stretch/>
          </p:blipFill>
          <p:spPr>
            <a:xfrm>
              <a:off x="4859280" y="2349360"/>
              <a:ext cx="2098800" cy="22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11" descr="Logos IALA-2014 Previos_Page_6"/>
            <p:cNvPicPr/>
            <p:nvPr/>
          </p:nvPicPr>
          <p:blipFill>
            <a:blip r:embed="rId6"/>
            <a:srcRect l="28551" t="18019" r="30160" b="14653"/>
            <a:stretch/>
          </p:blipFill>
          <p:spPr>
            <a:xfrm>
              <a:off x="6804000" y="4078080"/>
              <a:ext cx="2060640" cy="237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Text Box 12"/>
          <p:cNvSpPr/>
          <p:nvPr/>
        </p:nvSpPr>
        <p:spPr>
          <a:xfrm>
            <a:off x="900000" y="1844640"/>
            <a:ext cx="51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Currently only as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926640" y="131616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Log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4)  Develop themes / titles for the various technical s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0" y="1484280"/>
            <a:ext cx="9612360" cy="44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General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Possible registrations for one day on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- One matter /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Two hours technical sess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- 5 communications of 20 min.+20 min de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Four technical sessions /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One technical session devoted IMC on R+D+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One technical sessions devoted “Good Practic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4)  Develop themes / titles for the various technical sessions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4"/>
          <p:cNvSpPr/>
          <p:nvPr/>
        </p:nvSpPr>
        <p:spPr>
          <a:xfrm>
            <a:off x="684360" y="1584360"/>
            <a:ext cx="8064360" cy="25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General comments (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Spend some communication on charting (perphaps in e-Nav. matters)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Good Practices session: 10 communications of 10 min. + 20 min. de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4)  Develop themes / titles for the various technical sessions (I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116000" y="1413000"/>
            <a:ext cx="7272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Good Practices template (1-2 pa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Problem to be add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AtoN typ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Equipment/servic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Key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Knowledge ac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8:16:57Z</dcterms:created>
  <dc:creator>JFR</dc:creator>
  <dc:description/>
  <dc:language>en-US</dc:language>
  <cp:lastModifiedBy>Usuario</cp:lastModifiedBy>
  <dcterms:modified xsi:type="dcterms:W3CDTF">2011-10-24T08:26:53Z</dcterms:modified>
  <cp:revision>95</cp:revision>
  <dc:subject/>
  <dc:title>Diapositiva 1</dc:title>
</cp:coreProperties>
</file>